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5B22-F35B-46C0-BC4C-124DB700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A7F-3FC7-4861-9ED6-C43B94FB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F9A-B70F-4A9E-A67E-D9189640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86F-66C6-431F-ACB9-971D8B6A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6A5-4C74-45FA-A719-9F0C2772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8ED-B7D6-43B2-84D8-3870EF33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1CE-440E-4B16-9FCD-CDB6793D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157-F783-4162-9C9B-E4004694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A39-01C7-4DEA-BFE0-05E1B89A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E89-7C48-4BDD-8728-9E9910A4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064-FA00-4E5E-85AA-06D8CA2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5E8-56C0-416A-AF93-6AEF01D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7ED9-6742-4CEE-81D9-0F5FACA4B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ypdftools.com/buy/buy-pdf-to-powerpoint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122480" y="1579680"/>
            <a:ext cx="5529240" cy="5112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22480" y="2090880"/>
            <a:ext cx="5529240" cy="4730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3"/>
          <p:cNvSpPr/>
          <p:nvPr/>
        </p:nvSpPr>
        <p:spPr>
          <a:xfrm>
            <a:off x="1069920" y="3427560"/>
            <a:ext cx="6480" cy="46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069920" y="3427560"/>
            <a:ext cx="5635800" cy="46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6699240" y="3427560"/>
            <a:ext cx="6480" cy="46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1069920" y="3432240"/>
            <a:ext cx="6480" cy="738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1069920" y="4164120"/>
            <a:ext cx="5629320" cy="6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6699240" y="3432240"/>
            <a:ext cx="6480" cy="7380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6699240" y="4164120"/>
            <a:ext cx="6480" cy="61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5685480" y="901800"/>
            <a:ext cx="986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  <a:ea typeface="宋体"/>
              </a:rPr>
              <a:t>Biz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787040" y="1650960"/>
            <a:ext cx="417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Comp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74360" y="2298600"/>
            <a:ext cx="26236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Hot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Pro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3126960" y="3454560"/>
            <a:ext cx="1492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You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Compan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658320" y="3619440"/>
            <a:ext cx="4428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3016080" y="3784680"/>
            <a:ext cx="173988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Tel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Fax: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E-mail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588120" y="3949560"/>
            <a:ext cx="5832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Web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宋体"/>
              </a:rPr>
              <a:t>pag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128960" y="4965840"/>
            <a:ext cx="54514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od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e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e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m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od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bmi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mest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n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erg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geth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esen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cumen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C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eading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ansi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p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low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vi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mpl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bmi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3867120" y="9182160"/>
            <a:ext cx="39600" cy="27000"/>
          </a:xfrm>
          <a:prstGeom prst="pie">
            <a:avLst/>
          </a:pr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1882440" y="901800"/>
            <a:ext cx="484560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99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Y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99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ot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00"/>
              </a:lnSpc>
              <a:tabLst>
                <a:tab algn="l" pos="0"/>
                <a:tab algn="l" pos="266760"/>
                <a:tab algn="l" pos="1041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Table of Cont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1125360" y="3467160"/>
            <a:ext cx="328680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ECU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FI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RG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rength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eakness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portunit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re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rate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ANCH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ackg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anchi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l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anch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eti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ven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ccup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273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6540120" y="3467160"/>
            <a:ext cx="77040" cy="5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3848040" y="9182160"/>
            <a:ext cx="7776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4924440" y="901800"/>
            <a:ext cx="17974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122120" y="1473120"/>
            <a:ext cx="3001320" cy="79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T/SERVI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merg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e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du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STR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228600"/>
                <a:tab algn="l" pos="2717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6540120" y="1473120"/>
            <a:ext cx="77040" cy="36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3"/>
          <p:cNvSpPr/>
          <p:nvPr/>
        </p:nvSpPr>
        <p:spPr>
          <a:xfrm>
            <a:off x="1122480" y="1111320"/>
            <a:ext cx="5529240" cy="2844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1122480" y="9180360"/>
            <a:ext cx="5529240" cy="288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3828960" y="9182160"/>
            <a:ext cx="11592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4924440" y="901800"/>
            <a:ext cx="17974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826800" y="9283680"/>
            <a:ext cx="1058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3074040" y="1473120"/>
            <a:ext cx="16117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List of Appendi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1059480" y="1955880"/>
            <a:ext cx="56286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Tip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N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maj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s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with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l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exce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6-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ag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append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res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detai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informatio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Sugges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append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宋体"/>
              </a:rPr>
              <a:t>fol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128960" y="2755800"/>
            <a:ext cx="3355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1132560" y="2921040"/>
            <a:ext cx="5469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gmenta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ttern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hannel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/qual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gment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ustom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ategori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rend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/segment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a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ik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ensu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at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en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a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1133640" y="3886200"/>
            <a:ext cx="535284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hart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k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olum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i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sourc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s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t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e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ven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362960" y="4673520"/>
            <a:ext cx="51480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nsist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i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riv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arl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ull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scri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k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sump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123200" y="5118120"/>
            <a:ext cx="2782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355760" y="5308560"/>
            <a:ext cx="52513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f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w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mou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&amp;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onth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anc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olla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ropri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ercentag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quarte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amp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nu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bsequ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122480" y="6108840"/>
            <a:ext cx="165456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mo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359360" y="6299280"/>
            <a:ext cx="51174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mot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e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pe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ate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ot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rochures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132200" y="7201080"/>
            <a:ext cx="54316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ppor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e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en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d/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iz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or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i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ac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i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ea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haus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3"/>
          <p:cNvSpPr/>
          <p:nvPr/>
        </p:nvSpPr>
        <p:spPr>
          <a:xfrm>
            <a:off x="1170000" y="1046160"/>
            <a:ext cx="5430960" cy="2556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1170000" y="9229680"/>
            <a:ext cx="543096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3848040" y="9231480"/>
            <a:ext cx="7452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1170000" y="2441520"/>
            <a:ext cx="5430960" cy="285840"/>
          </a:xfrm>
          <a:prstGeom prst="pie">
            <a:avLst/>
          </a:pr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1170000" y="2727360"/>
            <a:ext cx="5430960" cy="27000"/>
          </a:xfrm>
          <a:prstGeom prst="pi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4988880" y="851040"/>
            <a:ext cx="1655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Impact"/>
                <a:ea typeface="宋体"/>
              </a:rPr>
              <a:t>YourCompanyName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847680" y="9334440"/>
            <a:ext cx="64800" cy="1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251000" y="2489040"/>
            <a:ext cx="124416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宋体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324080" y="2857680"/>
            <a:ext cx="509904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trodu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ntit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company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evelope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i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dica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cop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ructu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cument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is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ri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'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ummar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n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inali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ex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1220400" y="3429000"/>
            <a:ext cx="530640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pla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e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ro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urpose/reas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merc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ot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)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G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tac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addres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hone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ax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-mail)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ac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embe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G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rie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mation/incorpor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etai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ession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(auditor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eg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ax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tellectu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erty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ing/business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echnic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ten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tc.)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incip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ankers/investor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u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is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ppendix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ength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274040" y="4406760"/>
            <a:ext cx="51991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s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yp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posal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ial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refo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mporta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us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ialit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atement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,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clu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ragraph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ike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551600" y="4813200"/>
            <a:ext cx="50756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cu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fident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d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vailabl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dividu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h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dres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understand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ten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i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isclo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iscus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it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r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cep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dividual'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w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ession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r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estmen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ew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ma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usiness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arri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ig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risk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we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ossibilit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ig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reward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igh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peculat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otent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esto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wa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stablish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rke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is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rad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f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iva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ie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spectiv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esto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verif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l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teri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act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ak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c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ro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ession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dvise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fo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ntering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mit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1558800" y="6134040"/>
            <a:ext cx="50612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trict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nl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stitu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spectu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vita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ubscri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are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jection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l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ha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e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mpil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moter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illustrativ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urpose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an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d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constitut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rofi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orecasts.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ventual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utcom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ay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b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mo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or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les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favourabl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a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ortray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1208880" y="6870600"/>
            <a:ext cx="2725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his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ntire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not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exceed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two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pag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592000" y="1244520"/>
            <a:ext cx="27658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Y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Hot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H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2623680" y="1905120"/>
            <a:ext cx="27154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Hot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Proj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Times New Roman"/>
                <a:ea typeface="宋体"/>
              </a:rPr>
              <a:t>Propos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-37080" y="622440"/>
            <a:ext cx="613188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06060"/>
                </a:solidFill>
                <a:latin typeface="Tahoma"/>
                <a:ea typeface="宋体"/>
              </a:rPr>
              <a:t>Thank you for evaluating AnyBizSoft PDF to PowerPoi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699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606060"/>
                </a:solidFill>
                <a:latin typeface="Tahoma"/>
                <a:ea typeface="宋体"/>
              </a:rPr>
              <a:t>You can only convert 5 pages with the trial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1" lang="en-US" sz="1200" spc="-1" strike="noStrike">
                <a:solidFill>
                  <a:srgbClr val="606060"/>
                </a:solidFill>
                <a:latin typeface="Tahoma"/>
                <a:ea typeface="宋体"/>
              </a:rPr>
              <a:t>To get all the pages converted, you need to purchase the software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64764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ahoma"/>
                <a:ea typeface="宋体"/>
                <a:hlinkClick r:id="rId1"/>
              </a:rPr>
              <a:t>http://www.anypdftools.com/buy/buy-pdf-to-powerpoint.htm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obert</dc:creator>
  <dc:description/>
  <dc:language>en-US</dc:language>
  <cp:lastModifiedBy>robert</cp:lastModifiedBy>
  <dcterms:modified xsi:type="dcterms:W3CDTF">2011-03-31T10:23:06Z</dcterms:modified>
  <cp:revision>3</cp:revision>
  <dc:subject/>
  <dc:title>Slide 1</dc:title>
</cp:coreProperties>
</file>